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D54C-DF43-4530-9664-1277555F3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0664-D65C-49D0-AA6C-D6FBB2FA7B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39ED-4700-4014-8D6F-39D1876D46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oreau paid the highway tax but not the state tax (applies to the next slide as we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C06D-D5E4-4F8D-A752-7C04348B09B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iling Thoreau out of jail does more harm than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67A5-7A69-497F-BAC8-22A609883C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ster’s background 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1E22-0030-4F3D-B5F5-E5F491D669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from the excerpts, we can tie together the Webster consistency ideas with this id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1325-69F6-44AE-B7C9-1B7B1A3935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368E-43CF-4F61-A984-58CB455308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dividual should be more important than the governmen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D415-B2CD-4757-B1FC-205DB941EC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60AD-188B-4238-92E3-4225DB7984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5E6-3F75-453D-B29D-189EFF67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198-664B-4D2E-A1F7-73AF80C0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EAE-130D-4709-92F2-A0495CDF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FB8C-4DE9-423A-A752-AA06391E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432-02D4-4C35-A7DD-F7363DA8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64F-D5EE-4A3D-8309-11FC0ADA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6C1-803D-4684-8552-26532B85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4B9-33DF-4D54-9632-8877205C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7A4-DB7B-474B-A823-AD626E6D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636-AF1F-4511-94C4-FD6F1BAA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95CE-085A-4E2F-83DB-5A6FCC5A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A6F-B7E1-4E67-A5BF-D306ECA9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036C-0825-4607-A8E4-5DE4E66581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vil Disobedienc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ction 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education.jpg"/>
          <p:cNvPicPr/>
          <p:nvPr/>
        </p:nvPicPr>
        <p:blipFill>
          <a:blip r:embed="rId1"/>
          <a:stretch/>
        </p:blipFill>
        <p:spPr>
          <a:xfrm>
            <a:off x="685800" y="685800"/>
            <a:ext cx="3173400" cy="2106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429000" y="304812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V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105520" y="434340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STAT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609480" y="1905120"/>
            <a:ext cx="7925040" cy="1922760"/>
          </a:xfrm>
          <a:prstGeom prst="rect">
            <a:avLst/>
          </a:prstGeom>
          <a:solidFill>
            <a:srgbClr val="d9d9d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d0d0d"/>
                </a:solidFill>
                <a:latin typeface="Calibri"/>
              </a:rPr>
              <a:t>Who do we  owe our allegiance to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jail ba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daniel-webster.jpg"/>
          <p:cNvPicPr/>
          <p:nvPr/>
        </p:nvPicPr>
        <p:blipFill>
          <a:blip r:embed="rId1"/>
          <a:stretch/>
        </p:blipFill>
        <p:spPr>
          <a:xfrm>
            <a:off x="2438280" y="533520"/>
            <a:ext cx="42674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" descr="searching.jpg"/>
          <p:cNvPicPr/>
          <p:nvPr/>
        </p:nvPicPr>
        <p:blipFill>
          <a:blip r:embed="rId1"/>
          <a:stretch/>
        </p:blipFill>
        <p:spPr>
          <a:xfrm>
            <a:off x="0" y="3048120"/>
            <a:ext cx="414324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3429000" y="914400"/>
            <a:ext cx="4800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d0d0d"/>
                </a:solidFill>
                <a:latin typeface="Calibri"/>
              </a:rPr>
              <a:t>Wise people constantly search for one thing…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066680" y="205740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Calibri"/>
              </a:rPr>
              <a:t>TRUTH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990720" y="2286000"/>
            <a:ext cx="6629400" cy="1922400"/>
          </a:xfrm>
          <a:prstGeom prst="rect">
            <a:avLst/>
          </a:prstGeom>
          <a:solidFill>
            <a:srgbClr val="7f7f7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alibri"/>
              </a:rPr>
              <a:t>Individual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xter, Maurice G.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iel Webster and the Supreme Court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966; Brown, Norman D.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iel Webster and the Politics of Availability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969; Current, Richard N.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iel Webster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955; Curtis, George T.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e of Daniel Webster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870; Fuess, Claude M.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iel Webster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vols., 1930; Van Tyne, C. H., ed.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ters of Daniel Webster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902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iel Webster. N.d. N.p., n.d. Web. 16 Mar. 2010. &lt;http://www.americanhistory.abc-clio.com/ Search/ Display.aspx?categoryid=22&amp;searchtext=daniel+webster&amp;type=simple&amp;option=all&amp;entryid=272966&amp;issublink= true&amp;fromsearch=false&gt;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ment Building. N.d. N.p., n.d. Web. 15 Mar. 2010. &lt;http://www.livingstonefg.com/ Government.aspx&gt;. Graduation Cap. N.d.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pus Acces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N.p., n.d. Web. 15 Mar. 2010. &lt;http://www.campusaccess.com/ education/index.html&gt;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il bars. N.d. N.p., n.d. Web. 15 Mar. 2010. &lt;http://netjanlaw.com/Criminal.htm&gt;. Man with binoculars. N.d. N.p., n.d. Web. 15 Mar. 2010. &lt;http://www.salsoftin.com/seo.asp&gt;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ey. N.d.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um's New Lin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N.p., n.d. Web. 15 Mar. 2010. &lt;http://www.juddlegum.com/blog/ category/economy/&gt;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21:28:29Z</dcterms:created>
  <dc:creator>Christina</dc:creator>
  <dc:description/>
  <dc:language>en-US</dc:language>
  <cp:lastModifiedBy>000077hs</cp:lastModifiedBy>
  <dcterms:modified xsi:type="dcterms:W3CDTF">2010-03-19T14:20:47Z</dcterms:modified>
  <cp:revision>15</cp:revision>
  <dc:subject/>
  <dc:title>Civil Disobedience  Section 5</dc:title>
</cp:coreProperties>
</file>